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D7C-F331-4990-93CF-948489C8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130-A55C-4F71-9829-77AF5092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236-F61A-44F3-BD9D-4598C5FB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ACF-D21B-4621-ABA0-FFE01E56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71D-DD85-47B6-93A0-F13C639D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22F-0C71-4890-9173-74DDD994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804-CEC5-41C0-832D-85B4B15F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06A-C8FB-4B05-8668-26C1A76C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914-C577-49EB-8FDA-F0899EAB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8AA-020D-48FD-8CBC-BE0A7C99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CD3-3E7B-404F-8015-2D7619BC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04A-0BEB-48C4-B15D-0553E8BB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7D1A-B635-414D-A825-E89E1690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6475" t="0" r="0" b="7583"/>
          <a:stretch/>
        </p:blipFill>
        <p:spPr>
          <a:xfrm>
            <a:off x="304920" y="228600"/>
            <a:ext cx="2146320" cy="52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307440" y="5562720"/>
            <a:ext cx="19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ustavo Vald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uba, Mat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-2619" t="0" r="0" b="3895"/>
          <a:stretch/>
        </p:blipFill>
        <p:spPr>
          <a:xfrm>
            <a:off x="2895480" y="533520"/>
            <a:ext cx="2816280" cy="533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" name=""/>
          <p:cNvSpPr/>
          <p:nvPr/>
        </p:nvSpPr>
        <p:spPr>
          <a:xfrm>
            <a:off x="2666880" y="2288160"/>
            <a:ext cx="160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laudia Lava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emuco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divia/Concepc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28574" t="0" r="33337" b="4658"/>
          <a:stretch/>
        </p:blipFill>
        <p:spPr>
          <a:xfrm>
            <a:off x="6267600" y="1143000"/>
            <a:ext cx="2876400" cy="52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5336640" y="601992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nuel Alo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España, Zarago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venturas de Los Amigos: Perso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7080" y="5791320"/>
            <a:ext cx="230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och Oroz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éxico, Guanaju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39797" t="0" r="39624" b="6829"/>
          <a:stretch/>
        </p:blipFill>
        <p:spPr>
          <a:xfrm>
            <a:off x="228600" y="304920"/>
            <a:ext cx="2681280" cy="5181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2"/>
          <a:srcRect l="0" t="0" r="51664" b="7899"/>
          <a:stretch/>
        </p:blipFill>
        <p:spPr>
          <a:xfrm>
            <a:off x="3370320" y="762120"/>
            <a:ext cx="2954160" cy="449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3657600" y="5105880"/>
            <a:ext cx="152388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eria Piñei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Uruguay, Montevide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0" r="50006" b="5071"/>
          <a:stretch/>
        </p:blipFill>
        <p:spPr>
          <a:xfrm>
            <a:off x="5919840" y="1752480"/>
            <a:ext cx="2908080" cy="472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" name=""/>
          <p:cNvSpPr/>
          <p:nvPr/>
        </p:nvSpPr>
        <p:spPr>
          <a:xfrm>
            <a:off x="8003880" y="48002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lop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04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venturas de Los Amigos: Perso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27:17Z</dcterms:created>
  <dc:creator>Valeria.Palladino</dc:creator>
  <dc:description/>
  <dc:language>en-US</dc:language>
  <cp:lastModifiedBy>Home</cp:lastModifiedBy>
  <dcterms:modified xsi:type="dcterms:W3CDTF">2010-02-06T18:36:02Z</dcterms:modified>
  <cp:revision>7</cp:revision>
  <dc:subject/>
  <dc:title>Slide 1</dc:title>
</cp:coreProperties>
</file>